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67925-3BC4-4579-83AC-2977C7B03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F9FF2-AF84-4BC1-974F-3856767BB3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C646D-2B87-4F97-8285-E4E862F2FC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A9734-8BCB-4EEE-B887-BB29EAF825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66EA8-750E-4026-BC19-65303B718B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C8B06-5948-4F7C-9DED-0844C25A53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A9343-BFF5-45C8-98E0-8109A7BF84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E6BDE-7C34-48EC-AC6F-0E44CCE3FF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A8010-0B5D-4AA0-945B-61EFC922AC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2E274-0209-4C98-9898-1B5A0F98C9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09279-2040-45A7-AC44-4607C5BFF7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C41CD-8B65-4699-ADFD-16D0B65058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A6C70-0654-4BE2-A3F8-0AABFC7602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94334-0AEE-4079-A543-2C5B36485C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527E1-2E64-4EFE-B9AE-0E1E48C480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F6C23-DE7A-40F8-8DDE-0A68E42C81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151920"/>
            <a:ext cx="77724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4640" y="151920"/>
            <a:ext cx="77724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151920"/>
            <a:ext cx="77724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219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152280"/>
            <a:ext cx="8380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219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63560" y="152280"/>
            <a:ext cx="8380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0880" y="1523520"/>
            <a:ext cx="7850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pinion Mining and Sentiment Analysi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lides from Bing Liu and Ronan Feld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3200" y="225000"/>
            <a:ext cx="84708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ntity and Aspect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Liu, Web Data Mining book, 2006)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09560" y="1494000"/>
            <a:ext cx="8470800" cy="51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: An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entity 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product, person, event, organization, or topic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represented a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ierarchy of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omponents, sub-compon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so o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node represents a component and is associated with a set of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ttribu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compon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An opinion can be expressed on any node or attribute of the node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For simplicity, we use the term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aspects (features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to represent both components and attribut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820880" y="3625920"/>
            <a:ext cx="54151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6880" y="277560"/>
            <a:ext cx="827748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pinion definition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Liu, a Ch. in NLP handbook)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23960" y="1382760"/>
            <a:ext cx="8277120" cy="478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opinio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is a quintup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o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Arial"/>
              </a:rPr>
              <a:t>jk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so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Arial"/>
              </a:rPr>
              <a:t>ijk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arget obje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feature of the obje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jk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entiment value of the opinion of the opinion hold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featu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bje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jk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+ve, -ve, or neu, or a more granular rating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pinion holde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time when the opinion is express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ur example in quintup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Phone, GENERAL, +, Abc123, 5-1-200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Phone, touch_screen, +, Abc123, 5-1-200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lternative terminolog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y is also called objec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is also called feature, attribute, facet, et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 holder is also called opinion 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ructure the unstructure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99840" y="1488960"/>
            <a:ext cx="8156520" cy="453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iven an opinionated document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over all quintuples 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Arial"/>
              </a:rPr>
              <a:t>jk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Arial"/>
              </a:rPr>
              <a:t>ijk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mine the five corresponding pieces of information in each quintuple, 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r, solve some simpler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.g. classify the sentiment of the entire docu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9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With the quintuples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structured Text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Structured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data and visualization tools can be used to slice, dice and visualize the results in all kinds of w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qualitative and quantitative analysi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2360" y="12852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ntiment Classification: </a:t>
            </a: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doc-level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Pang  and Lee, et al 2002 and Turney 2002)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58800" y="1557000"/>
            <a:ext cx="8485200" cy="45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assify a docum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e.g., a review) based on the overall sentiment expressed by opinion holder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Class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Positive, or negative (and neutra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odel, (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o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Arial"/>
              </a:rPr>
              <a:t>jk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so</a:t>
            </a:r>
            <a:r>
              <a:rPr b="0" i="1" lang="en-US" sz="2800" spc="-1" strike="noStrike" baseline="-25000">
                <a:solidFill>
                  <a:srgbClr val="3333ff"/>
                </a:solidFill>
                <a:latin typeface="Arial"/>
              </a:rPr>
              <a:t>ijk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t assum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660240" indent="-342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cument focuses on a single object and contains opinions from a single opinion hold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60240" indent="-342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nsiders opinion on the object,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o</a:t>
            </a:r>
            <a:r>
              <a:rPr b="0" i="1" lang="en-US" sz="2400" spc="-1" strike="noStrike" baseline="-25000">
                <a:solidFill>
                  <a:srgbClr val="3333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(or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o</a:t>
            </a:r>
            <a:r>
              <a:rPr b="0" i="1" lang="en-US" sz="2400" spc="-1" strike="noStrike" baseline="-25000">
                <a:solidFill>
                  <a:srgbClr val="3333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3333ff"/>
                </a:solidFill>
                <a:latin typeface="Arial"/>
              </a:rPr>
              <a:t>jk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ubjectiv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ntence subjectiv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jective sent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s some factual information, whil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bjective sent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es some personal opinions, beliefs, views, feelings, or emo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emo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7640" y="128520"/>
            <a:ext cx="853272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ubjectivity Analysi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Wiebe et al 2004)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09560" y="1420560"/>
            <a:ext cx="8399520" cy="474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tence-level sentiment analysis has two task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ubjectivity classifi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ubjective or objectiv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.g.,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bought an iPhone a few days ag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.g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t is such a nice phon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ntiment classifi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For subjective sentences or clauses, classify positive or negativ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is such a nice phon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oweve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iu, Chapter in NLP handboo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jective sentenc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ve or –ve opin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think he came yesterday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ive sentenc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≠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pin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mply –ve opin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y phone broke in the second day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ational and emotional evalua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evaluation: Many evaluation/opinion sentences express no emo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“The voice on this phone is clear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al eval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“I love this phon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ice on this phone is crystal clear” (?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motion sentences express no (positive or negative) opinion/sent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“I am so surprised to see you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eature-Based Sentiment Analysi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1494000"/>
            <a:ext cx="8388360" cy="47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timent classification at both document and sentence (or clause) levels are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not sufficient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,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y do not tell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at people like and/or dislik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ositive opinion on an object does not mean that the opinion holder likes everythin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negative opinion on an object does not mean …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bjective: 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iscovering all quintupl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jk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ll quintuples, all kinds of analyses become possi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98040" y="1420920"/>
            <a:ext cx="8302680" cy="47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ain types of textual informatio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ts and Opin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factual statements can imply opinions to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st current text information processing methods (e.g., web search, text mining) work with factual inform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ntiment analysis or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pinion m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 study of opinions, sentiments and emotions expressed in tex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y opinion mining now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inly because of the Web; huge volumes of opinionated tex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pinion Summar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a lot of opinions, a summary is necessary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ulti-document summarization tas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factual texts, summarization is to select the most important facts and present them in a sensible order while avoiding repeti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fact = any number of the same fa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opinion documents, it is different because opinions have a quantitative side &amp; have targ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opinion ≠ a number of opin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-based summary is more suitab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intuples form the basis for opinion summariz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6960" y="115920"/>
            <a:ext cx="844704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eature-Based Opinion Summary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Hu &amp; Liu, KDD-2004) 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2320" y="1603440"/>
            <a:ext cx="4260600" cy="484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I bought an 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iPhone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a few days ago. It was such a nice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hone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. The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touch scree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as really cool. The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voice quality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as clear too. Although the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battery lif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as not long, that is ok for me. However, my mother was mad with me as I did not tell her before I bought the phone. She also thought the phone was too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expensive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, and wanted me to return it to the shop. …”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827240" y="1530000"/>
            <a:ext cx="4148280" cy="46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eature Based 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1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uch scr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osi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ouch scre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s really co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ouch scre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s so easy to use and can do amazing thing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Neg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re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easily scratc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have a lot of difficulty in removing finger marks from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uch scre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2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te: We omit opinion hold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9680" y="14256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isual Comparison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Liu et al. WWW-2005)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647640" y="1038240"/>
            <a:ext cx="8431200" cy="2895480"/>
            <a:chOff x="647640" y="1038240"/>
            <a:chExt cx="8431200" cy="2895480"/>
          </a:xfrm>
        </p:grpSpPr>
        <p:sp>
          <p:nvSpPr>
            <p:cNvPr id="178" name="Rectangle 4"/>
            <p:cNvSpPr/>
            <p:nvPr/>
          </p:nvSpPr>
          <p:spPr>
            <a:xfrm>
              <a:off x="8393040" y="1800360"/>
              <a:ext cx="228600" cy="1447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51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>
              <a:off x="7250040" y="1571760"/>
              <a:ext cx="228600" cy="1447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51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6107040" y="1952640"/>
              <a:ext cx="228600" cy="14479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51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4964040" y="1571760"/>
              <a:ext cx="228600" cy="1447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51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3821040" y="1343160"/>
              <a:ext cx="228600" cy="1447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51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3135240" y="2638440"/>
              <a:ext cx="586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647640" y="149544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mmary of reviews of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Cell Phon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3443040" y="3476520"/>
              <a:ext cx="167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4586040" y="3476520"/>
              <a:ext cx="167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re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6945120" y="347652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z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8011800" y="3476520"/>
              <a:ext cx="106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ight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5"/>
            <p:cNvSpPr/>
            <p:nvPr/>
          </p:nvSpPr>
          <p:spPr>
            <a:xfrm>
              <a:off x="5805360" y="3476520"/>
              <a:ext cx="167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tt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6"/>
            <p:cNvSpPr/>
            <p:nvPr/>
          </p:nvSpPr>
          <p:spPr>
            <a:xfrm>
              <a:off x="3211200" y="103824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Arial"/>
                  <a:ea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7"/>
            <p:cNvSpPr/>
            <p:nvPr/>
          </p:nvSpPr>
          <p:spPr>
            <a:xfrm>
              <a:off x="3287520" y="2867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703080" y="2333520"/>
              <a:ext cx="304920" cy="2286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51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9"/>
          <p:cNvGrpSpPr/>
          <p:nvPr/>
        </p:nvGrpSpPr>
        <p:grpSpPr>
          <a:xfrm>
            <a:off x="704880" y="3857760"/>
            <a:ext cx="8298000" cy="2666880"/>
            <a:chOff x="704880" y="3857760"/>
            <a:chExt cx="8298000" cy="2666880"/>
          </a:xfrm>
        </p:grpSpPr>
        <p:sp>
          <p:nvSpPr>
            <p:cNvPr id="194" name="Text Box 20"/>
            <p:cNvSpPr/>
            <p:nvPr/>
          </p:nvSpPr>
          <p:spPr>
            <a:xfrm>
              <a:off x="704880" y="4068720"/>
              <a:ext cx="289584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rison of reviews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Cell Phone 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Cell Phone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21"/>
            <p:cNvGrpSpPr/>
            <p:nvPr/>
          </p:nvGrpSpPr>
          <p:grpSpPr>
            <a:xfrm>
              <a:off x="739800" y="5076720"/>
              <a:ext cx="320760" cy="838440"/>
              <a:chOff x="739800" y="5076720"/>
              <a:chExt cx="320760" cy="838440"/>
            </a:xfrm>
          </p:grpSpPr>
          <p:sp>
            <p:nvSpPr>
              <p:cNvPr id="196" name="Rectangle 22"/>
              <p:cNvSpPr/>
              <p:nvPr/>
            </p:nvSpPr>
            <p:spPr>
              <a:xfrm>
                <a:off x="755640" y="5076720"/>
                <a:ext cx="304920" cy="2286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51"/>
                  </a:spcBef>
                  <a:buClr>
                    <a:srgbClr val="3366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3"/>
              <p:cNvSpPr/>
              <p:nvPr/>
            </p:nvSpPr>
            <p:spPr>
              <a:xfrm>
                <a:off x="739800" y="5686560"/>
                <a:ext cx="30492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51"/>
                  </a:spcBef>
                  <a:buClr>
                    <a:srgbClr val="3366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Rectangle 24"/>
            <p:cNvSpPr/>
            <p:nvPr/>
          </p:nvSpPr>
          <p:spPr>
            <a:xfrm>
              <a:off x="6488280" y="4695840"/>
              <a:ext cx="228600" cy="14479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51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5"/>
            <p:cNvSpPr/>
            <p:nvPr/>
          </p:nvSpPr>
          <p:spPr>
            <a:xfrm>
              <a:off x="7631280" y="4695840"/>
              <a:ext cx="228600" cy="14479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51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6"/>
            <p:cNvSpPr/>
            <p:nvPr/>
          </p:nvSpPr>
          <p:spPr>
            <a:xfrm>
              <a:off x="8774280" y="4619520"/>
              <a:ext cx="228600" cy="14479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51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7"/>
            <p:cNvSpPr/>
            <p:nvPr/>
          </p:nvSpPr>
          <p:spPr>
            <a:xfrm>
              <a:off x="8393400" y="4467240"/>
              <a:ext cx="228600" cy="14479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51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8"/>
            <p:cNvSpPr/>
            <p:nvPr/>
          </p:nvSpPr>
          <p:spPr>
            <a:xfrm>
              <a:off x="7250400" y="4238640"/>
              <a:ext cx="228600" cy="14479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51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9"/>
            <p:cNvSpPr/>
            <p:nvPr/>
          </p:nvSpPr>
          <p:spPr>
            <a:xfrm>
              <a:off x="6107400" y="4619520"/>
              <a:ext cx="228600" cy="14479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51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0"/>
            <p:cNvSpPr/>
            <p:nvPr/>
          </p:nvSpPr>
          <p:spPr>
            <a:xfrm>
              <a:off x="4964400" y="4238640"/>
              <a:ext cx="228600" cy="14479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51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1"/>
            <p:cNvSpPr/>
            <p:nvPr/>
          </p:nvSpPr>
          <p:spPr>
            <a:xfrm>
              <a:off x="3821400" y="4010040"/>
              <a:ext cx="228600" cy="14479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51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2"/>
            <p:cNvSpPr/>
            <p:nvPr/>
          </p:nvSpPr>
          <p:spPr>
            <a:xfrm>
              <a:off x="3135600" y="5305320"/>
              <a:ext cx="586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3"/>
            <p:cNvSpPr/>
            <p:nvPr/>
          </p:nvSpPr>
          <p:spPr>
            <a:xfrm>
              <a:off x="5345280" y="5076720"/>
              <a:ext cx="228600" cy="14479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51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4"/>
            <p:cNvSpPr/>
            <p:nvPr/>
          </p:nvSpPr>
          <p:spPr>
            <a:xfrm>
              <a:off x="4202280" y="4924440"/>
              <a:ext cx="228600" cy="14479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51"/>
                </a:spcBef>
                <a:buClr>
                  <a:srgbClr val="3366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5"/>
            <p:cNvSpPr/>
            <p:nvPr/>
          </p:nvSpPr>
          <p:spPr>
            <a:xfrm>
              <a:off x="3287880" y="5915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Arial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6"/>
            <p:cNvSpPr/>
            <p:nvPr/>
          </p:nvSpPr>
          <p:spPr>
            <a:xfrm>
              <a:off x="3211560" y="385776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Arial"/>
                  <a:ea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spect-based opinion summar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260360" y="1563840"/>
            <a:ext cx="6623280" cy="46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oogle Product Search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911160" y="1558800"/>
            <a:ext cx="747720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92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paring 3 GPSs on different features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63480" y="137592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ar shows the proportion of +ve opin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674640" y="1887480"/>
            <a:ext cx="8398080" cy="49262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mo 1: Detail opinion sentenc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11280" y="1274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lick on any bar to see the opinion sentences. Here are negative opinion sentences on the maps feature of Garmi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ie chart gives the proportions of opin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528480" y="2463840"/>
            <a:ext cx="85806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# of feature mentions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4640" y="1376280"/>
            <a:ext cx="846936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talked more about prices than other features. They are quite positive about price, but not bout maps and softwa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0102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F6E3-7A1D-4722-BE36-2527D458007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147680" y="2116080"/>
            <a:ext cx="7419960" cy="44816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ggregate opinion tren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3200" y="14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ains in July - Aug, and in Oct – Dec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70102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819F-7086-45A0-A3FA-3CFBF80AE70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071720" y="1932120"/>
            <a:ext cx="7353000" cy="46288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9640" cy="59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ntiment Analysis is Challenging!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98400" y="142056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s past Saturday, I bought a 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Noki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hone and my girlfriend bought a 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Motorol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hone with 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Bluetooth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We called each other when we got home.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voice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on my phone was not so clear, worse than my previous ph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ffc000"/>
                </a:solidFill>
                <a:latin typeface="Arial"/>
              </a:rPr>
              <a:t>The battery life was long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My girlfriend was quite happy with her ph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I wanted a phone with good 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sound quality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b0f0"/>
                </a:solidFill>
                <a:latin typeface="Arial"/>
              </a:rPr>
              <a:t>So my purchase was a real disappointme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I returned the phone yester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troduction – user-generated media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4000" y="1383840"/>
            <a:ext cx="8280360" cy="48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mportance of opinion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s are useful when making a decision, we want to hear others’ opinion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In the p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Individu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pinions from friends and fami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busin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urveys, focus groups, consultants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ord-of-mouth on the Web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User-generated med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ne can express opinions on anything in reviews, forums, discussion groups, blogs ..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Opinions of global scale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limite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Individu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’s circle of frie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usin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mall scale surveys, tiny focus groups, etc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9440" y="225360"/>
            <a:ext cx="838656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nti. Analysis Requires solving several IE problem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98400" y="1383840"/>
            <a:ext cx="8229600" cy="47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jk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 target object: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Named Entity Extraction (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 featur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nformation Ext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jk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entiment: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entiment determin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pinion holder: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Data Ext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time: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Data Ext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o-reference re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elation extr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Synonym match (voice = sound quality)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ne of them is a solved problem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asier and harder problem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ets from Twitter are probably the easi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and thus usually straight to the po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twits are much harder! (more on that lat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s are n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are given (almost) and there is little no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s, comments, and blogs are har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ultiple entities, comparisons, noisy, sarcasm, et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ing entities and aspects, and determining sentiments/opinions about them are har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them is hard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traction of competing objects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r first gives a few objects/products a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e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, BMW and For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stem then identifies other competing objects from the opinion corpu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lem can be tackled with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U lear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arning from positive and unlabeled examples) (Liu et al 2002, 2003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(Li et al. ACL-201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eature/Aspect-based sentiment analysi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spect-based sentiment analysi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ch of the research is based on online review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reviews, aspect-based sentiment analysis is easier because the entity (i.e., product name) is usually know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ers simply express positive and negative opinions on different aspects of the entity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blogs, forum discussions, etc., it is harder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entity and aspects of entity are unknown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may also be many comparisons, a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lso a lot of irrelevant informatio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ind entiti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similar, it is somewhat different from the traditional named entity recognition (NER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one wants to study opinions on phones given Motorola and Nokia, find all phone brands and models in a corpus, e.g., Samsung, Mot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eature/Aspect extra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ion may us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 nouns and noun phr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limited to a set known to be related to the entity of interest or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discrimin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or a scanner entity “of scanner”, “scanner ha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 and target re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ity or syntactic depend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IE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-based or supervised lear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HMMs or CRFs (like standard 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ouble Propag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4000" y="1493640"/>
            <a:ext cx="845964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in (Qiu et al. IJCAI-200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co-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exploits the dependency relations of opinions and features to extract featur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s words modify object features, e.g.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mera takes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great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pi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orithm bootstraps using a set of seed opinion words (no feature input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tract features (and also opinion wor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DP metho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698120"/>
            <a:ext cx="7772400" cy="20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P is a bootstrapping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a set of seed opinion word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spect seed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dependency tree (Tesniere 195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9"/>
          <p:cNvSpPr/>
          <p:nvPr/>
        </p:nvSpPr>
        <p:spPr>
          <a:xfrm>
            <a:off x="4737240" y="4754520"/>
            <a:ext cx="606240" cy="403200"/>
          </a:xfrm>
          <a:custGeom>
            <a:avLst/>
            <a:gdLst>
              <a:gd name="textAreaLeft" fmla="*/ 0 w 606240"/>
              <a:gd name="textAreaRight" fmla="*/ 606240 w 60624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600" h="360">
                <a:moveTo>
                  <a:pt x="600" y="360"/>
                </a:moveTo>
                <a:lnTo>
                  <a:pt x="600" y="0"/>
                </a:ln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0"/>
          <p:cNvSpPr/>
          <p:nvPr/>
        </p:nvSpPr>
        <p:spPr>
          <a:xfrm flipH="1">
            <a:off x="4210920" y="4579920"/>
            <a:ext cx="1366920" cy="577800"/>
          </a:xfrm>
          <a:custGeom>
            <a:avLst/>
            <a:gdLst>
              <a:gd name="textAreaLeft" fmla="*/ -360 w 1366920"/>
              <a:gd name="textAreaRight" fmla="*/ 1366920 w 136692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600" h="360">
                <a:moveTo>
                  <a:pt x="600" y="360"/>
                </a:moveTo>
                <a:lnTo>
                  <a:pt x="600" y="0"/>
                </a:ln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481040" y="5229360"/>
            <a:ext cx="56833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phone has good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9"/>
          <p:cNvSpPr/>
          <p:nvPr/>
        </p:nvSpPr>
        <p:spPr>
          <a:xfrm>
            <a:off x="3038400" y="4754520"/>
            <a:ext cx="608040" cy="403200"/>
          </a:xfrm>
          <a:custGeom>
            <a:avLst/>
            <a:gdLst>
              <a:gd name="textAreaLeft" fmla="*/ 0 w 608040"/>
              <a:gd name="textAreaRight" fmla="*/ 608400 w 60804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600" h="360">
                <a:moveTo>
                  <a:pt x="600" y="360"/>
                </a:moveTo>
                <a:lnTo>
                  <a:pt x="600" y="0"/>
                </a:ln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9"/>
          <p:cNvSpPr/>
          <p:nvPr/>
        </p:nvSpPr>
        <p:spPr>
          <a:xfrm>
            <a:off x="3743280" y="4754520"/>
            <a:ext cx="409680" cy="403200"/>
          </a:xfrm>
          <a:custGeom>
            <a:avLst/>
            <a:gdLst>
              <a:gd name="textAreaLeft" fmla="*/ 0 w 409680"/>
              <a:gd name="textAreaRight" fmla="*/ 410040 w 40968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600" h="360">
                <a:moveTo>
                  <a:pt x="600" y="360"/>
                </a:moveTo>
                <a:lnTo>
                  <a:pt x="600" y="0"/>
                </a:ln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ules from dependency gramma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11040" y="1449360"/>
            <a:ext cx="88329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ntiment analysis applica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375920"/>
            <a:ext cx="777240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Businesses and organiza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chmark products and services; market intelligenc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es spend a huge amount of money to find consumer opinions using consultants, surveys and focus groups, etc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dividua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decisions to purchase products or to use serv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public opinions about political candidates and issu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d plac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e.g. in social medi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an ad if one praises a produc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an ad from a competitor if one criticizes a produc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Opinion retriev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provide general search for opin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roup synonym features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(Zhai et al. 2010)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63480" y="1375920"/>
            <a:ext cx="8229600" cy="47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that are domain synonyms should be grouped together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echniques can be used to deal with the problem, e.g.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modeling, distributional similarity, et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oposed a semi-supervised learning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. Zhai, B. Liu, H. Xu and P. Jia. Grouping Product Features Using Semi-Supervised Learning with Soft-Constraint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ING-201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reference resolution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(Ding and Liu 2010)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98400" y="1494000"/>
            <a:ext cx="8229600" cy="46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traditional coreference re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solve objects and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.,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bought a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anon S500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mera yesterday.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ooked beautiful. I took a few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hoto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ast night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ere ama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pecific characteristics of opinions can be exploited for better accuracy. Se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 Ding and B. Liu, Resolving Object and Attribute Coreference in Opinion Minin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ING-20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reference Resolution by Parse Analysis and Similarity Cluster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ttardi et al. 2010) best performing at SemEval 201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es mentions from dependency tre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eager classifier to cluster men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stances are created by pairing each mention with each of the preceding on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atures extracted from pairs of mention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xical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ame, Prefix, Suffix, Acronym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ance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Edit, mention, token, sente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yntax: same 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HeadPoS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pair of 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HeadPo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air of counts of mention occurren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ame NE ty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 pronouns:  type, pair of genders, pair of numb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ccuracy at SemEval 2010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87280" y="2205000"/>
          <a:ext cx="6697800" cy="2714760"/>
        </p:xfrm>
        <a:graphic>
          <a:graphicData uri="http://schemas.openxmlformats.org/drawingml/2006/table">
            <a:tbl>
              <a:tblPr/>
              <a:tblGrid>
                <a:gridCol w="2160720"/>
                <a:gridCol w="1627200"/>
                <a:gridCol w="1662120"/>
                <a:gridCol w="1247760"/>
              </a:tblGrid>
              <a:tr h="54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c2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c2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c2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c2ff"/>
                    </a:solidFill>
                  </a:tcPr>
                </a:tc>
              </a:tr>
              <a:tr h="54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2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PMingLiU"/>
                        </a:rPr>
                        <a:t>57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4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4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43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5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4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PMingLiU"/>
                        </a:rPr>
                        <a:t>59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reference resolu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of (Lee, Peirsman et al. 2011), which was the best-performing in CoNLL-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locating all noun phrases, identifying their properties, and then clustering them in several deterministic iterations (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e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starting with the highest-confidence rules and moving to lower-confidence higher-recall 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ger approach: any matching noun phrases with matching properties are immediately clustered togeth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995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dentify opinion orient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96960" y="1530000"/>
            <a:ext cx="83757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For each feature, we identify the sentiment or opinion orientation expressed by a reviewer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most all approaches make use of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pinion wor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hrases.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But notice again (a simplistic way):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pinion words have context independent orientations, e.g., “great”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ther opinion words have context dependent orientations, e.g., “small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ways to use opinion word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hine learning methods for sentiment classification at the sentence and clause levels are also applicabl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72840" y="16524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ggregation of opinion words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Ding and Liu, 2008)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09200" y="1599840"/>
            <a:ext cx="8147160" cy="50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a pai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is a product featur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is a sentence that 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w Cen MT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whether the opinion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is positive, negative, or neutra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wo step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1: split the sentence if needed based on BUT words (but, except that, etc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2: work on the seg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contain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 Let the set of opinion word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 Sum up their orientations (1, -1, 0), and assign the orientation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ccordingly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(Ding et al, WSDM-08), step 2 is changed t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th better results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o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is the opinion orient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is the distance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4"/>
              <p:cNvSpPr txBox="1"/>
              <p:nvPr/>
            </p:nvSpPr>
            <p:spPr>
              <a:xfrm>
                <a:off x="4014720" y="5300640"/>
                <a:ext cx="1314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o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9636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asic Opinion Rules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Liu, Ch. in NLP handbook)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63480" y="1420560"/>
            <a:ext cx="8229600" cy="47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s are governed by some rules, e.g.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on Ne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on P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value rang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or above the desired value rang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964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asic Opinion Rules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Liu, Ch. in NLP handbook)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9280" y="15210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Neg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P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Ne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P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 resour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resour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 was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was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wo Main Types of Opin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98400" y="153000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 Opin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rect sentiment expressions on some target objects, e.g., products, events, topics, pers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.g., “the picture quality of this camera is great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y are much more complex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arative Opinion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s expressing similarities or differences of more than one object. Usually stating an ordering or preferenc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“car x is cheaper than car y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 Fascinating Problem!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1382400"/>
            <a:ext cx="8386920" cy="474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llectually challenging &amp; major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pular research topic in recent years in NLP and Web data mining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-60 companies in USA al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ouches every aspect of NLP and yet is restricted and confin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research in NLP/Linguistics in the pa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ly a major technology from NLP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not yet” and not eas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ourcing and data integration are hard too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parative Opinions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Jindal and Liu, 2006)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74640" y="14126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Grad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Non-Equal Grad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lations of the typ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ea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: “optics of camera A is better than that of camera B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Equ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lations of the typ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qual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mera A and camera B both come in 7M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perl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lations of the typ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ea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ess than all ot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mera A is the cheapest camera available in mark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ining Comparative Opin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74640" y="1521000"/>
            <a:ext cx="8229600" cy="46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iven an opinionated docum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.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Extract comparative opin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, h,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e object sets being compared based on their shared featur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referred object set of the opinion hold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time when the comparative opinion is expres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 positive or negative opinion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ntiment Lexic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ntiment (opinion) lexic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iment lexicon: lists of words and expressions used to express people’s subjective feelings and sentiments/opin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iments/opin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just individual words, but also phrases and idioms, e.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an arm and a le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entiment lexica can be found on the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often have thousands of terms, and are quite usefu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ntiment lexic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timent words or phrases (also called polar words,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inion bearing words, etc). E.g.,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: beautiful, wonderful, good, amazing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: bad, poor, terrible, cost an arm and a le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of them are context dependent, not just application domain depend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main ways to compile such list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al approach: not a bad idea for a one-time eff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pus-based approa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ctionary-based approa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rpus vs Dictionary-based metho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us-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se a double propagation between opinion words and the items they modif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a large corpus to get good cove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ionary-based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WordNet’s synsets and hierarchies to acquire opinion 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 not give domain or context dependent mean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rpus-based approach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y on syntactic patterns in large corpo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azivassiloglou and McKeown, 1997; Turney, 2002; Yu and Hazivassiloglou, 2003; Kanayama and Nasukawa, 2006; Ding, Liu and Yu, 200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find domain dependent orientations (positive, negative, or neutral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urney, 2002) and (Yu and Hazivassiloglou, 200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imil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opinion orientations (polarities) to words/phra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u and Hazivassiloglou, 2003) is slightly different from (Turney, 200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more seed words (rather than two) and use log-likelihood ratio (rather than PMI)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Double Propagation metho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P method can also use dependency of opinions &amp; aspects to extract new opinion wor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dependency re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an aspect can find the opinion word that modifies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“The rooms are spaciou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some opinion words can find more opinion 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“The rooms are spacious and beautifu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jkoun, Rijke and Weerkamp (2010) did similar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pinions implied by objective term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pinion words are adjectives and adverbs, e.g., good, bad, et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lso many subjective and opinion verbs and </a:t>
            </a:r>
            <a:r>
              <a:rPr b="0" lang="nn-NO" sz="2400" spc="-1" strike="noStrike">
                <a:solidFill>
                  <a:srgbClr val="000000"/>
                </a:solidFill>
                <a:latin typeface="Arial"/>
              </a:rPr>
              <a:t>nouns, e.g., hate (VB), love (VB), crap (NN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bjective nouns can imply opinions to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“After sleeping on the mattress for one month, a body impression has formed in the middl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scover such nouns in a domain or contex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un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 aspect with an implied opinion, it has a fixed opinion, either +ve or -ve, but not bot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ind two direct modification relations using a dependency pars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1: O → O-Dep →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s TV has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goo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pictu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2: O → O-Dep → H ← A-Dep ←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The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spring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the mattress are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b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aspect has mixed opinions based on the two dependency relations, prune 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bsract Problem Stateme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nsists of two p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pinion defi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n opinio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pinion summar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s are subjective. An opinion from a single person (unless a VIP) is often not sufficient for a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opinions from many people, and thus opinion summar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ictionary-based method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use WordNet’s synsets and hierarchies to acquire opinion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a small seed set of opinion wor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trap the set to search for synonyms and antonyms in WordNet iteratively (Hu and Liu, 2004; Kim and Hovy, 2004;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Valitutti, Strapparava and Stock, 2004; Mohammad, Dun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orr, 2009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mps et al., (2004) proposed a WordNet distance method to determine the sentiment orientation of a given adj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4640" y="30600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mi-supervised learning</a:t>
            </a:r>
            <a:br>
              <a:rPr sz="4400"/>
            </a:br>
            <a:r>
              <a:rPr b="0" lang="it-IT" sz="2800" spc="-1" strike="noStrike">
                <a:solidFill>
                  <a:srgbClr val="000000"/>
                </a:solidFill>
                <a:latin typeface="Tw Cen MT Condensed"/>
              </a:rPr>
              <a:t>(Esuli and Sebastiani, 2005)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upervised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wo seed sets: positive set P, negative set 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seed sets are then expanded using synonym and antonymy relations in an online dictionary to generate the expanded sets P’ and N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’ and N’ form the training 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ll the glosses in a dictionary for each term in P’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’ and converting them to a ve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binary classifi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iWord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hich approach to use?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corpus and dictionary based approaches are need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ionary usually does not give domain or context dependent mean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us is needed for t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us-based approach is hard to find a very large set of opinion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tionary is good for t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actice, corpus, dictionary and manual approaches are all need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pam Dete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712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pinion Spam Det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(Jindal and Liu, 2007, 2008)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698400" y="1785960"/>
            <a:ext cx="822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ake/untruthful revie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Write undeserving positive review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some target objects in order to promot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Write unfair or malicious negative review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some target objects to damage their repu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ing number of customers wary of fake reviews (biased reviews, paid revi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1236600" y="2332080"/>
            <a:ext cx="7475760" cy="451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47280" y="201600"/>
            <a:ext cx="849636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An Example Practice of Review Spam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4000" y="135072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lkin International, In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networking and peripherals manufacturer | Sales ~ $500 million in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sted an ad for writing fake reviews on amazon.com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65 cents per review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7018200" y="2884320"/>
            <a:ext cx="15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Ja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9480" y="225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periments with Amazon Review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5922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00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8mil reviews, 1.2mil products and 2.1mil review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view has 8 p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Product ID&gt; &lt;Reviewer ID&gt; &lt;Rating&gt; &lt;Date&gt; &lt;Review Title&gt; &lt;Review Body&gt; &lt;Number of Helpful feedbacks&gt; &lt;Number of Feedbacks&gt; &lt;Number of Helpful Feedbacks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manufactured products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Product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electronics, computers, accessories,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8K reviews, 36K products and 165K review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ome Tentative Resul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1120" y="144936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outlier reviews tend to be heavily spamm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reviews that are the only reviews of some products are likely to be spamm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-ranked reviewers are more likely to be spamm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m reviews can get good helpful feedbacks and non-spam reviews can get bad feedb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eeting Social Scienc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74280" y="1375920"/>
            <a:ext cx="82789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tract and analyze political opin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tes and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are opinions across cultures and lang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opinions of people from different countries on the same issue or topic, e.g.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net diploma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inion spam (fake opinion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cial, culture, economic aspects of i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inion propag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cial contex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opinions on the Web influence the real wor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y correlat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motion analy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cial context &amp; virtual wor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ebSays + Tiscali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18" name="Picture 3" descr="https://photos-1.dropbox.com/t/0/AAAoKYsVu2jNpdroNtgzDf4ZadwQa7sciqKrWvY6cGGp7A/10/10804296/jpeg/32x32/2/1362175200/0/2/tiscali-netsentiment.jpg_415368877.jpg/xNTPvWB5CzPd1TpsDJwhsDyOCw1WUVZ-vWjfqjep-Zw?size=1024x768&amp;size_mode=2"/>
          <p:cNvPicPr/>
          <p:nvPr/>
        </p:nvPicPr>
        <p:blipFill>
          <a:blip r:embed="rId1"/>
          <a:stretch/>
        </p:blipFill>
        <p:spPr>
          <a:xfrm>
            <a:off x="971640" y="1521000"/>
            <a:ext cx="7272360" cy="482436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319" name="TextBox 4"/>
          <p:cNvSpPr/>
          <p:nvPr/>
        </p:nvSpPr>
        <p:spPr>
          <a:xfrm>
            <a:off x="6156360" y="5553000"/>
            <a:ext cx="1944720" cy="550800"/>
          </a:xfrm>
          <a:prstGeom prst="rect">
            <a:avLst/>
          </a:prstGeom>
          <a:gradFill rotWithShape="0">
            <a:gsLst>
              <a:gs pos="0">
                <a:srgbClr val="b7c4ff"/>
              </a:gs>
              <a:gs pos="100000">
                <a:srgbClr val="e8ecff"/>
              </a:gs>
            </a:gsLst>
            <a:lin ang="162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7/1/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n Example Review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4000" y="1457280"/>
            <a:ext cx="8459640" cy="467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c00000"/>
                </a:solidFill>
                <a:latin typeface="Arial"/>
              </a:rPr>
              <a:t>I bought an iPhone a few days ago. It was such a nice phone. The touch screen was really cool. The voice quality was clear too. Although the battery life was not long, that is ok for me. </a:t>
            </a:r>
            <a:r>
              <a:rPr b="0" i="1" lang="en-US" sz="2600" spc="-1" strike="noStrike">
                <a:solidFill>
                  <a:srgbClr val="00b050"/>
                </a:solidFill>
                <a:latin typeface="Arial"/>
              </a:rPr>
              <a:t>However, my mother was mad with me as I did not tell her before I bought the phone. </a:t>
            </a:r>
            <a:r>
              <a:rPr b="0" i="1" lang="en-US" sz="2600" spc="-1" strike="noStrike">
                <a:solidFill>
                  <a:srgbClr val="0000ff"/>
                </a:solidFill>
                <a:latin typeface="Arial"/>
              </a:rPr>
              <a:t>She also thought the phone was too expensive, and wanted me to return it to the shop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 …”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do we se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Opin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targets of opin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opinion ho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74280" y="1449360"/>
            <a:ext cx="8240760" cy="467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briefly defined sentiment analysis proble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rect opinion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 on feature level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mparative opinion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types of 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pinion spam det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ake review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urrently working with Goo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oogle research award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t of applic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chnical challenges are still hu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ut I am quite optimistic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ested in collaboration with social scient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s and related issues are inherently socia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74640" y="1413000"/>
            <a:ext cx="8423280" cy="430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Liu, “Sentiment Analysis and Subjectivity.” A Chapter in 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Handbook of Natural Language Proce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nd Edition, 2010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s.uic.edu/~liub/FBS/sentiment-analysis.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ntity and aspect/feature leve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4000" y="1457280"/>
            <a:ext cx="8459640" cy="517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: Abc123 on 5-1-2008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 bought an </a:t>
            </a:r>
            <a:r>
              <a:rPr b="0" i="1" lang="en-US" sz="2600" spc="-1" strike="noStrike">
                <a:solidFill>
                  <a:srgbClr val="c00000"/>
                </a:solidFill>
                <a:latin typeface="Arial"/>
              </a:rPr>
              <a:t>iPhon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 few days ago. It is such a </a:t>
            </a:r>
            <a:r>
              <a:rPr b="0" i="1" lang="en-US" sz="2600" spc="-1" strike="noStrike">
                <a:solidFill>
                  <a:srgbClr val="c00000"/>
                </a:solidFill>
                <a:latin typeface="Arial"/>
              </a:rPr>
              <a:t>nice phone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ff"/>
                </a:solidFill>
                <a:latin typeface="Arial"/>
              </a:rPr>
              <a:t>touch scree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600" spc="-1" strike="noStrike">
                <a:solidFill>
                  <a:srgbClr val="c00000"/>
                </a:solidFill>
                <a:latin typeface="Arial"/>
              </a:rPr>
              <a:t>really cool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ff"/>
                </a:solidFill>
                <a:latin typeface="Arial"/>
              </a:rPr>
              <a:t>voice quality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i="1" lang="en-US" sz="2600" spc="-1" strike="noStrike">
                <a:solidFill>
                  <a:srgbClr val="c00000"/>
                </a:solidFill>
                <a:latin typeface="Arial"/>
              </a:rPr>
              <a:t> clea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oo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is much better than my old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Blackberr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which was a terrible phone and so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ifficult to typ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ith its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iny key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However, my mother was mad with me as I did not tell her before I bought the phone. She also thought the phone was too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xpensive</a:t>
            </a:r>
            <a:r>
              <a:rPr b="0" i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…”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do we se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Opinion targets: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ities and their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Sentime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ve and neg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Opinion holder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s who hold the opin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Tim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opinions were expr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4640" y="15192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wo main types of opin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gular opin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ntiment/opinion expressions on some target ent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opin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uch screen is really coo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direct opin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aking the drug, my pain has gon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opinions: Comparisons of more than one 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“iPhone is better than Blackberr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 focus on regular opinions first, and just call them opin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03:23:40Z</dcterms:created>
  <dc:creator>Preferred Customer</dc:creator>
  <dc:description/>
  <dc:language>en-US</dc:language>
  <cp:lastModifiedBy>ADMINS</cp:lastModifiedBy>
  <dcterms:modified xsi:type="dcterms:W3CDTF">2014-05-02T15:58:47Z</dcterms:modified>
  <cp:revision>2586</cp:revision>
  <dc:subject/>
  <dc:title>Mining and Summarizing Customer Reviews</dc:title>
</cp:coreProperties>
</file>